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459560" y="111240"/>
            <a:ext cx="36216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78760" y="912960"/>
            <a:ext cx="35640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The Muslim World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600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Arial"/>
              </a:rPr>
              <a:t>–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250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1936800"/>
            <a:ext cx="688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lerance of other cultures and a focus on learning help Muslim leaders build an empire that includes parts of Asia, Africa, and Euro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74800" y="2174760"/>
            <a:ext cx="546588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ve Pill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lims must carry out five duties—the  F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llars of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 of faith to Allah and to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his proph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y five times a day, can use a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osq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lamic house of wo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ve alms, or money for th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st between dawn and sunset during ho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 of Ramad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form th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ha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pilgrimage to Mecca—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ast o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82000" y="1690560"/>
            <a:ext cx="386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Beliefs and Practices of Isl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3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74800" y="2174760"/>
            <a:ext cx="5465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Way of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s and traditions guide Muslim’s l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holar clas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la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teachers apply relig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life; no pries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82000" y="1690560"/>
            <a:ext cx="386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Beliefs and Practices of Isl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73360" y="3427560"/>
            <a:ext cx="5736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urces of Auth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ginal source of authority for Muslims is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Qur’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holy book, contains revela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hammad received from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lims follow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un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Muhammad’s example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er li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 of Qur’an and Sunna assembled in bod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law—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shari’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4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74800" y="2174760"/>
            <a:ext cx="5465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ks to Judaism and Christia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Muslims, Allah is same God worshiped 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ristians and J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r’an, Gospels, Torah—contain God’s will 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ealed through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lims, Christians, and Jews trace their roots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three religions believe in heaven, hell, and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y of jud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ari’a law requires Muslim leaders to exte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igious toler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82000" y="1690560"/>
            <a:ext cx="386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Beliefs and Practices of Isl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5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0160" y="3508200"/>
            <a:ext cx="656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spite of internal conflicts, the Muslims create a huge empire that includes land on three contin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370160" y="2397240"/>
            <a:ext cx="6010200" cy="1032840"/>
            <a:chOff x="1370160" y="2397240"/>
            <a:chExt cx="6010200" cy="1032840"/>
          </a:xfrm>
        </p:grpSpPr>
        <p:sp>
          <p:nvSpPr>
            <p:cNvPr id="158" name=""/>
            <p:cNvSpPr/>
            <p:nvPr/>
          </p:nvSpPr>
          <p:spPr>
            <a:xfrm>
              <a:off x="1370160" y="239724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0160" y="2787480"/>
              <a:ext cx="601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Islam Expands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75520" y="182736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Muhammad’s Successors Spread Isl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9800" y="885960"/>
            <a:ext cx="305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Islam Expands 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73360" y="2403360"/>
            <a:ext cx="5788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New 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632 Muhammad dies; Muslims elect Abu-Bakr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 first cali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Cali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title for Muslim leader, means “successor” 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deputy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73360" y="3930480"/>
            <a:ext cx="5771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ghtly Guided” Cali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rst four caliphs guided by the Qur’an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hammad’s 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ih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armed struggle against unbelievers, used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and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750, Muslim empire stretches from Atlant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ean to Indus Ri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6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74800" y="2174760"/>
            <a:ext cx="54658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sons for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lim armies are well disciplined and expert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a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zantine and Sassanid empires are weak 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vious confli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ecuted citizens of these empires welco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tracted to Islam’s offer of equality and ho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80920" y="1690560"/>
            <a:ext cx="48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Muhammad’s Successors Spread Isl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773360" y="452268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eatment of Conquered Peo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lim invaders tolerate other relig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ristians, Jews receive special consideration 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ople of the book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72640" y="159876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Internal Conflict Creates a Cri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e of the Umayy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ggles for power end the elective system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oosing a cali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althy family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Umayya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take power; mo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slim capital to Damasc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8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73360" y="3703680"/>
            <a:ext cx="57369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nni—Shi’a Spl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hi’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“party” of Ali—believe caliph should b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hammad’s descend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un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followers of Muhammad’s example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Umayy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ufi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llowers pursue life of poverty, spirituality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ject Umayy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750, a rebel group—th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Abbas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topple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mayya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73360" y="159876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ontrol Extends Over Three Contin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ll of the Umayya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basids murder Umayyad family; one pri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capes, Abd al-Rah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ees to Spain; establishes new Umayy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iphate in al-Anda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al-Andal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Muslim state in southern Sp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ttled by North Afric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9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73360" y="424656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basids Consolidat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762, Abbasids move Muslim capital 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mascus to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tion provides access to trade goods, gold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bbasids develop strong bureaucracy to man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p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74800" y="217476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val Groups Divide Muslim 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pendent Muslim states spring up; Shi’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lims form new caliph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Fatim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aliphate—claim descent from Fatim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ughter of 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gins in North Africa; spreads to Red Se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stern Arabia and Sy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83080" y="1690560"/>
            <a:ext cx="481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ontrol Extends Over Three Contin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1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73360" y="4237200"/>
            <a:ext cx="57369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slim Trad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lims trade by land and sea with Asia and Euro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lim merchants use Arabic, single currency,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órdoba, in al-Andalus, is dazzling center of Musli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lt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1371600" y="2486160"/>
            <a:ext cx="4466520" cy="1078200"/>
            <a:chOff x="1371600" y="2486160"/>
            <a:chExt cx="4466520" cy="1078200"/>
          </a:xfrm>
        </p:grpSpPr>
        <p:sp>
          <p:nvSpPr>
            <p:cNvPr id="215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71960" y="2784600"/>
              <a:ext cx="44661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Muslim Culture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370160" y="350028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slims combine and preserve the traditions of many peoples and also advance learning in a variety of are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8760" y="912960"/>
            <a:ext cx="35640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The Muslim World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600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Arial"/>
              </a:rPr>
              <a:t>–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125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2046240" y="251136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2046240" y="30733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2046240" y="36511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47320" y="250200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ise of Isl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47320" y="3078000"/>
            <a:ext cx="19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lam Expa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8040" y="3635280"/>
            <a:ext cx="18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slim 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73000" y="182736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Muslim 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70880" y="885960"/>
            <a:ext cx="303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Muslim Cultur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73360" y="2403360"/>
            <a:ext cx="578808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ise of Muslim 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ing cities include Damascus, Baghdad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órdoba, Cairo, Jerusa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ghdad, impressive Abbasid capital; popu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ound one mill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2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73360" y="3921120"/>
            <a:ext cx="5788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ur Social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lim society: Muslims at birth, converts, protec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, sla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tected people” were Jews, Christian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oroastri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73360" y="5397480"/>
            <a:ext cx="60832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e of W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men enjoy some rights but expected to submi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omen’s responsibilities vary with husbands’ inc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71920" y="1598760"/>
            <a:ext cx="61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Muslim Scholarship Extends Knowle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73360" y="2174760"/>
            <a:ext cx="5445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slims Support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lims use scientific knowledge to help fulfi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igious du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hammad valued power of learning, stud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ola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lim scholars preserve and translate scientific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ilosophical 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House of Wis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Bagdad institute: librar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ademy, translation 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3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3360" y="159876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rt and Sciences Flourish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slim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’ran is standard for Arabic literature; praise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hammad, Isl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basid caliphate poets write of nature, life,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r literature includ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ousand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e Nigh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73360" y="4249800"/>
            <a:ext cx="57751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slim Art and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lam discourages images of living things, artists tu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calligra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alligrap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rt of beautiful hand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chitecture of Muslim mosques is blend of m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l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4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74800" y="217476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cal Adv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ian al-Razi is greatest physician, from 500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-Razi writes encyclopedia of medic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79840" y="1690560"/>
            <a:ext cx="350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rt and Sciences Flouris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73360" y="3700440"/>
            <a:ext cx="57369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h and Science Stretch Horiz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lim scientists solve problems throug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ri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-Khwarizmi develops algebra and writes text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hematician Ibn al-Haytham changes ideas abo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5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70480" y="159876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hilosophy and Religion Blend Vie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73360" y="2174760"/>
            <a:ext cx="58896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holars Promote New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bn Rushd is criticized for blending Greek philosoph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wish philosopher Maimonides faces opposition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lends philosophy, religion, science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Guid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erple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6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73360" y="4245120"/>
            <a:ext cx="5889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“Ideal Ma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lims recognize values of many cultures; enjoy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lended 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erging Ottoman, Safavid, Mughal empires ref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slim cult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05160" y="1274760"/>
            <a:ext cx="5457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firstslide"/>
          </p:cNvPr>
          <p:cNvSpPr/>
          <p:nvPr/>
        </p:nvSpPr>
        <p:spPr>
          <a:xfrm>
            <a:off x="7459560" y="111240"/>
            <a:ext cx="36216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370520" y="2486160"/>
            <a:ext cx="5040720" cy="1051920"/>
            <a:chOff x="1370520" y="2486160"/>
            <a:chExt cx="5040720" cy="1051920"/>
          </a:xfrm>
        </p:grpSpPr>
        <p:sp>
          <p:nvSpPr>
            <p:cNvPr id="59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70520" y="2895480"/>
              <a:ext cx="504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Rise of Islam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375920" y="3538440"/>
            <a:ext cx="59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hammad unifies the Arab people bo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ally and through the religion of Isl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73720" y="1827360"/>
            <a:ext cx="52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Deserts, Towns, and Trade Ro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70880" y="885960"/>
            <a:ext cx="341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Rise of Isla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3360" y="2428920"/>
            <a:ext cx="5530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rossroads of three continents: Africa, Asia,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stly desert with small amount of fertile l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73360" y="3676680"/>
            <a:ext cx="58608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rt and Town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douins, Arab nomads, thrive in the de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douins live in clans, which give support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Arabs settle near oases or market tow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6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74800" y="2174760"/>
            <a:ext cx="546588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ossroads of Trade and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sea and land trade routes pass throug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de extends to the Byzantine and Sassan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pires to the nor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82000" y="1690560"/>
            <a:ext cx="432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serts, Towns, and Trade Ro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73360" y="3732120"/>
            <a:ext cx="57369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c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lgrims come to Mecca to worship at the Ka’aba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cient sh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abs associate shrine with Hebrew proph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raham and monothe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tribes worship many gods and spirits, br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ols to Ka’a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Arabs believe in one God—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Alla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Arab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73720" y="159876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Prophet Muhamm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rly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ou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.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570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uhammad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born into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ful Meccan c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comes a trader, marries wealth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woman, Khadija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73360" y="3697200"/>
            <a:ext cx="54194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v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age 40, Muhammad spends much time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yer and med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 hears angel Gabriel tell him he 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enger of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hammad founds religion of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Isl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mission to the will of Allah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join him and becom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Musl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“one wh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s submitted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74800" y="2174760"/>
            <a:ext cx="546588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Hijra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hammad’s followers are attacked; toge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y leave Mecca in 62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Hijra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the Muslim migration from Mecca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athrib (renamed Medi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hammad attracts many more follower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omes great lead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leader—joins Jews and Arabs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na as a single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igious leader—draws more converts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litary leader—tackles growing hostili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tween Mecca and Medi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80200" y="1690560"/>
            <a:ext cx="33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Prophet Muhamm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0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74800" y="217476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turning to Mec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630, Muhammad and 10,000 followers retu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Mec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ccan leaders surr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hammad destroys idols in Ka’a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ccans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hammad unifies Arabian Peninsu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80200" y="1690560"/>
            <a:ext cx="33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Prophet Muhamm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1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73000" y="1598760"/>
            <a:ext cx="45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Beliefs and Practices of Isl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1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773360" y="2174760"/>
            <a:ext cx="5445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ain teaching of Islam is that there is on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god,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are responsible for their own actions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good and e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lamic monument in Jerusalem—Dome of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lims believe Muhammad rose to heaven h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learn Allah’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ws believe Abraham was prepared to sacrifi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Isaac at same si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Amy Kalas</cp:lastModifiedBy>
  <cp:lastPrinted>2003-11-12T20:33:16Z</cp:lastPrinted>
  <dcterms:modified xsi:type="dcterms:W3CDTF">2007-11-30T02:23:53Z</dcterms:modified>
  <cp:revision>815</cp:revision>
  <dc:subject/>
  <dc:title>No Slide Title</dc:title>
</cp:coreProperties>
</file>